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E8BE-0FAB-4E84-9A39-8780B782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AEF-5E5B-421F-9580-227DF87F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BD54-E337-4327-B508-5E074EEA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D489-8D6B-496B-8A27-FD5FCD37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E89B-3917-42D2-B390-5B1241A8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A11A-1112-4F53-8A7B-397A08DC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3975-F26C-4D7E-B3FE-F312E4EA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237B-749B-4B79-893F-F0EF698A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BEAE-7620-40A5-B3EC-E12AC49B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2118-A956-4040-B85E-DFB0303A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C551-EF1C-49FA-914C-DC58FC03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3106-806A-43AE-AE2C-BD07FF66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7C3D-C6B0-4FC1-85C8-B2070F315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0T16:22:37Z</dcterms:created>
  <dc:creator>ahernandezl</dc:creator>
  <dc:description/>
  <dc:language>en-US</dc:language>
  <cp:lastModifiedBy>ahernandezl</cp:lastModifiedBy>
  <dcterms:modified xsi:type="dcterms:W3CDTF">2009-12-30T16:23:01Z</dcterms:modified>
  <cp:revision>1</cp:revision>
  <dc:subject/>
  <dc:title>Diapositiva 1</dc:title>
</cp:coreProperties>
</file>