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037-542A-49AE-BC6C-A9BA3AAE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3A4-23C7-4C62-A86C-2953A85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F3C-EF97-4FFF-8474-AB5C6FDE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FC8-ABDC-443E-88B0-FD07C765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5B2-6BBF-49DF-97FC-E49C32B9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912-B8AA-4691-BD31-13DF5B2F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B60-987C-4621-84CB-952583B6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728-31C9-4ED0-9FA6-867DE53B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F86-62D2-42E0-9FC3-1EA73F7E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F75-F7DB-41EF-976C-38803D8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757-6448-4AB8-B971-C88C6DA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D2A-B545-481B-974E-FD2592E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888-2FCB-4ED4-AEDD-F5822590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01Z</dcterms:modified>
  <cp:revision>1</cp:revision>
  <dc:subject/>
  <dc:title>Diapositiva 1</dc:title>
</cp:coreProperties>
</file>