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9814-BC32-401E-8248-A4A5C3675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F605-CCAE-422A-913C-039361AE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2BB2-43F2-4848-B7E1-331A461A2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9882-858B-4A0F-80ED-3EAABFF96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1146-3723-4CF7-85BB-10980FF8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4F00-8308-46B3-AB34-8216E969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A7DC-8016-42F3-8F47-2C73DF3D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512D-147A-49FA-89F9-DD8AF84B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7955-CDAC-460A-B8DE-E1BB81EE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63F4-D817-4C76-8A8C-E43FEC49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B254-DCD2-4A7D-81CD-8D5374D6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AE98-6901-478F-9E4A-AA428110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4CC7-0760-437D-8005-EB14B6F83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30T16:22:37Z</dcterms:created>
  <dc:creator>ahernandezl</dc:creator>
  <dc:description/>
  <dc:language>en-US</dc:language>
  <cp:lastModifiedBy>ahernandezl</cp:lastModifiedBy>
  <dcterms:modified xsi:type="dcterms:W3CDTF">2009-12-30T16:23:01Z</dcterms:modified>
  <cp:revision>1</cp:revision>
  <dc:subject/>
  <dc:title>Diapositiva 1</dc:title>
</cp:coreProperties>
</file>