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E85-AA64-472D-B834-17D16621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4F8-AA5B-4C0B-8F1F-4EC75673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8B3-F439-4011-A9F1-343D2A33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436-678C-4A40-95D0-4BBAC2AD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0DF-C9A0-4E90-934D-D342D719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1E9-1C19-4C62-A50D-0620CDDC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85B-AEBA-4079-8D21-54AF1EFF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1C4-2D1E-4AF6-9CAC-30447558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BB4-DA52-4751-8777-F2517493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845-F4B2-4166-B49B-CB0B0352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44A-8D01-4056-995B-4B934CD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943-6340-4FC5-A661-1624143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E426-C73F-42DB-9C48-4A2870E3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6:22:37Z</dcterms:created>
  <dc:creator>ahernandezl</dc:creator>
  <dc:description/>
  <dc:language>en-US</dc:language>
  <cp:lastModifiedBy>ahernandezl</cp:lastModifiedBy>
  <dcterms:modified xsi:type="dcterms:W3CDTF">2009-12-30T16:23:01Z</dcterms:modified>
  <cp:revision>1</cp:revision>
  <dc:subject/>
  <dc:title>Diapositiva 1</dc:title>
</cp:coreProperties>
</file>