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D41D-C410-403B-9444-688ADD2D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7C3-B4F0-4AEC-895F-C5F66DC1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9654-1487-4E18-B2F9-BBB658A2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C71-DD4A-4BB1-9A11-19654F9D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568-8603-400E-9351-CE31BC93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E39E-B328-4F1A-8057-C9EEA0BF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D2D3-B645-4F5B-A1D8-0FBC255D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014-9C06-45C6-9592-94D44402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5BD1-1297-4890-85CD-B0AC13D8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36D-D690-4EF5-91ED-45576789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11C-613B-4BB0-82BA-DF961D54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DB7A-20DF-4087-B983-B326B324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0E59-CE89-47C4-9490-176E7C84F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0T16:22:37Z</dcterms:created>
  <dc:creator>ahernandezl</dc:creator>
  <dc:description/>
  <dc:language>en-US</dc:language>
  <cp:lastModifiedBy>ahernandezl</cp:lastModifiedBy>
  <dcterms:modified xsi:type="dcterms:W3CDTF">2009-12-30T16:23:40Z</dcterms:modified>
  <cp:revision>1</cp:revision>
  <dc:subject/>
  <dc:title>Diapositiva 1</dc:title>
</cp:coreProperties>
</file>