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4B2-A5B3-4902-BCC0-FC095511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0D4-854F-4EA1-A54A-0829DD2F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808-AC9C-4BCE-B9E7-BF17A9CC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45E-E229-40C4-9B33-CE2AB2DB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A48-3CC0-461B-843F-3A273E06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634-EF7B-442A-B3DF-49DF8231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7F1-205E-4D70-8A66-2F7141AE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640-99E8-4CE7-B3DA-D2C7CB22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AE3-7156-4D09-B301-CBEA4B40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47D-8310-4D7E-B8F5-8A7E060B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79C-DD98-4D1F-AAAE-2FF4B98D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973-35A8-435A-8D7D-C94D8D68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3646-DE66-4008-8A01-BE0EEE4CD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6:22:37Z</dcterms:created>
  <dc:creator>ahernandezl</dc:creator>
  <dc:description/>
  <dc:language>en-US</dc:language>
  <cp:lastModifiedBy>ahernandezl</cp:lastModifiedBy>
  <dcterms:modified xsi:type="dcterms:W3CDTF">2009-12-30T16:23:40Z</dcterms:modified>
  <cp:revision>1</cp:revision>
  <dc:subject/>
  <dc:title>Diapositiva 1</dc:title>
</cp:coreProperties>
</file>