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D9E-2E8F-4982-A0E2-DB85497D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E43-9035-4836-976F-E20FC5F7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D8E-75CD-406A-B273-9881FAE0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034-0CFB-4BA1-BF8B-015FAFC9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2B3-0246-4868-ABC0-C7A63F0E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9D08-0C37-4B22-8D9C-F83D300B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FB8-DED6-4784-8419-7C426D00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0A83-D5BC-4639-BBB4-17AD1CBC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2D4-54DD-4CA4-876D-5E5ECDB2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479-5EA2-48E2-ACAE-BE38121E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2C0-F87B-459F-B06F-A4C251A7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997-E4FF-4AA4-8317-2185429E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8F53-75DD-48C6-85E2-066E93711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6:22:37Z</dcterms:created>
  <dc:creator>ahernandezl</dc:creator>
  <dc:description/>
  <dc:language>en-US</dc:language>
  <cp:lastModifiedBy>ahernandezl</cp:lastModifiedBy>
  <dcterms:modified xsi:type="dcterms:W3CDTF">2009-12-30T16:23:40Z</dcterms:modified>
  <cp:revision>1</cp:revision>
  <dc:subject/>
  <dc:title>Diapositiva 1</dc:title>
</cp:coreProperties>
</file>