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55E-1B46-4851-BB63-CA5F43CC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893-E0AC-4198-9981-F9A67EC2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FED5-5C33-4D90-A3FD-D4ED5384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EEC-A432-469E-8E87-057A8590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384-30B3-4DEC-AC2C-00D00B1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4D4-5EA3-4C98-ACA6-582F2108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B9C-EA9B-4AE1-8815-5E94C269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FBF-CDEF-4935-A9E8-E9192D01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A97-64F2-473A-B289-F4425314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37B-E80B-48D1-B5AA-4E5CE8C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984-6199-4BF1-839D-58035D7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F4B-F8A8-410D-BD65-19B662F9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2D41-4F4B-4DB0-9DA9-E464EB518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6:22:37Z</dcterms:created>
  <dc:creator>ahernandezl</dc:creator>
  <dc:description/>
  <dc:language>en-US</dc:language>
  <cp:lastModifiedBy>ahernandezl</cp:lastModifiedBy>
  <dcterms:modified xsi:type="dcterms:W3CDTF">2009-12-30T16:23:40Z</dcterms:modified>
  <cp:revision>1</cp:revision>
  <dc:subject/>
  <dc:title>Diapositiva 1</dc:title>
</cp:coreProperties>
</file>